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EFB9-80BB-4D98-8C74-77E47EB7C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new typeface (felix), make larger.  Give boxes some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53FF-4F27-4D56-AD6E-A5C0B74BD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– note we have rep in subheads, in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F1A8-1849-45B8-B2B0-392F0ECA1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align everything – then right align the top 2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café – right align top – make it book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AB0F-1F85-4CCB-BFD7-16E02784E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afé – bookman for top, bradley hand for bottom, add line, add space, right alig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EA19-3A2C-4F91-99D0-C6F970ABA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172-E07D-4C0A-89DD-046758CD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80C-CB6C-483D-BA16-6487CFBB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4F37-5B71-4C52-ADCB-162581FF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BAD-DB87-418E-91EB-44C1114C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9E3A-6C72-405D-8192-75572F73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505B-C00C-4F69-94CD-0143ED72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D48E-6DAE-47CF-A3B4-990B9505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2797-5683-48A9-B9E7-BC32545A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F925-233A-4FB1-8381-37AF386B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0E29-BEF4-4765-9E59-52A03594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C6C2-126F-4B6C-955E-FA76FC3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D73-87E7-4183-90F5-42AD85D8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C905-6C33-4F0D-A6EC-F2059F78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91DA-AF2C-4757-88B2-C7622D36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7B1F-811F-471F-9099-1AD059D1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A434-1E23-4BD3-BF08-465D1F98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6C81-230E-4C21-BAEC-2FA8830C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24100-B081-4CB5-9650-F9EB384D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24FDE-E98B-49B9-B62D-C6A865DB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C17A-8B00-4770-B0EE-66985A3B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4BB8-8FC9-41A8-9FED-346975C2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8071-C77F-449C-91C6-12449F02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73D-D401-438D-A10B-D057C107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9CAF-BB67-4E95-8504-1BCBAF70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40927-BBE1-4F87-934A-7ADF205E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6264-7830-423E-96FE-45CA8904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7B18-63F4-40D6-958F-4127A839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F585-7464-4E5E-84D1-AAE989CE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C28E-725B-407A-8547-7624FE05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A3ECB-D7B6-42E5-A951-0679446F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B3192-BEED-41F7-A7A5-45647A6A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A632-547D-410F-9A82-9B32E018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4104D-118D-4C71-AC33-007F887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B9E-108E-4927-8DBA-1DE1DB3C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A86D1-E34A-43AF-9113-84D530C4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F6DA5-2FB9-47FE-A1D8-00A24F67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4E810-AF43-4498-9CB2-EB825376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591B-845B-4E67-8628-7B020949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51AB-E80C-4822-89C1-69605B58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DA0D-0203-4622-BC89-D4D8AA91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7A7AF-1113-4B46-8B0D-37C11203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73122-B458-4B86-897B-80B499ED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318F5-A8B6-4496-99F2-5FA5BF6C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DF7AF-D603-4D8D-8788-941E90B2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D66-53AC-4C73-A294-D6DD2835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301A1-7900-4589-A333-FAACBBD2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23105-26C6-44D2-817A-601053F5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64D79-A994-491D-BF8A-118E4A24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0262-BD4D-4F55-84D4-3782DD0F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DEC8B-66C7-414E-B44C-9A093E3E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DC3C7-F0A6-4C18-A878-244E6D6D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A69E8-7905-4A83-B951-480C587A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2C24D-170B-4CBE-A160-8B48F86F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0964B-9AD2-45F3-A538-B0A49D8C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901FA-4045-4C55-B899-9A1F078D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C42-FEA0-4A45-9D76-DAEBE4C8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749EB-CFB8-466A-BB18-58F24482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6E94-04EC-4B2F-A77C-C7E458E9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712CB-57C2-4EE5-8D4E-D6C238C3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C6598-93F8-409A-826B-CD967310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C035D-C851-4CDD-99D9-7CDC7E9A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B9E9A-CCF5-474D-923E-2DAD381B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42005-4684-4CD0-8670-10D21838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1B35C-40BA-4274-810B-0D14979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A6255-2617-46DA-BADB-9D4DFF8B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6838A-832F-485E-96C0-8305BBCE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DE4-5B01-4D3C-898B-061EFB67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7620C-D336-44E2-9FF1-6FA78678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F718C-E4D2-4C61-BA82-78BAFCD6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3C5B8-7BD3-49EA-8B1C-1F51E6DF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5CB50-1626-4D2E-8BC6-CF60ADBD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5D2A9-15A8-4A0D-B6C6-ED095BF4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1C275-4CBE-4F8B-91C6-E40A1597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E2E96-7A2E-42F1-85F0-866747E5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4D78A-2EA9-409F-AB6C-97AB8CC9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24277-3877-48D2-AD9C-55066C62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6F1C3-3AE3-4AE6-AD33-E76CC554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47C-6C75-458A-BAE5-ADF46835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BC4D4-728B-4CC6-B170-2AD6AEA7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D73F7-6B7A-41BB-87D5-10F79D4B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6B721-7F75-4F8D-B3A3-E16CABCC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F85F-8813-4B73-BBC2-4015811F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A2867-2782-405E-AFD4-EFB8B744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25A-7771-4746-93A3-B1205AE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7D5A-E89E-4913-9E8D-BD9DB86C4CB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0F08-9BCA-4F3A-907B-55BDB4B77FD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A101-B9E6-4683-A443-027914D8502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0A91-4AF6-41E2-9BC1-5E98E49DE7C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7890-F280-40A6-8D0D-EE488F49DCB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302F-C214-48D0-BFD5-B9F65D5D017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5E0E-B60D-4F20-9BD3-5CD260C38C5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aphicstandards.colostate.edu/files/pdf/csu-toolbox.pdf" TargetMode="External"/><Relationship Id="rId2" Type="http://schemas.openxmlformats.org/officeDocument/2006/relationships/hyperlink" Target="http://graphicstandards.colostate.edu/files/pdf/csu-toolbox.pd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Effective Poster Design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The Non-Designer’s Design Book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by Robin William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Dec 2010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SU places certain restrictions on fonts, colors, spacing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ee the Communicator’s Toolbox for detail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graphicstandards.colostate.edu/files/pdf/csu-toolbox.pdf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Fo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inion (serif) and Swiss 721 (sans serif) recommended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You may use Garamond, Helvetica, and Ariel to replace if you don’t have those font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The “accent font” loophol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21160" indent="-2192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For titles, headers and sub-heads you can be creativ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2" marL="821160" indent="-21924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Use this loophole judiciously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A Cave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The Non-Designer’s Design Book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Lots of pictur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Brochures, business cards, websites, poster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ows before and after examples of applying specific principl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4 main principles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Contrast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epeti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lignment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Proxim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RAP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f two items are not exactly the same, make them different. Really different.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Make strong choice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What to contrast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Siz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l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Font typeface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Vertical vs. horizonta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Background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ontras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Repeat some aspect of design throughout the piece.”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Unify the design with one repeated aspect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gain, make strong choic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What to repeat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Design elements (logos, bullet points, shapes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Header and sub-header styles (size, thickness, color, style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Vertical and horizontal lin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Colors and texture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52960" indent="-2620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pacing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800"/>
            <a:ext cx="740880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Break away from a centered alignment”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Doesn’t mean NEVER center alig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E.g. – Center text in a box that is off center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What to align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Edge of text (left, right, center)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Where the edge of the text is on the pag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9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73e87"/>
                </a:solidFill>
                <a:latin typeface="Candara"/>
              </a:rPr>
              <a:t>E.g. – You can right align your text and then place that right edge on the left portion of the page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9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Alignmen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Group related items together”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Don’t be afraid of empty space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Use space to create relationship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Physical closeness implies a relationship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roximit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9:49:14Z</dcterms:created>
  <dc:creator>Jeff Wood</dc:creator>
  <dc:description/>
  <dc:language>en-US</dc:language>
  <cp:lastModifiedBy>Jeff Wood</cp:lastModifiedBy>
  <dcterms:modified xsi:type="dcterms:W3CDTF">2010-12-16T16:39:13Z</dcterms:modified>
  <cp:revision>5</cp:revision>
  <dc:subject/>
  <dc:title>Creating Effective Posters: The Non-Designer’s Design Book</dc:title>
</cp:coreProperties>
</file>